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7019-495F-4FF8-A635-DEF2A4ED8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F976-74E2-46C1-8BA9-BF46E59A4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45EF-F46A-4D54-8231-B1BD4842F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9EC0-D3DE-4743-AD46-FD8933AB9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8041-7AC2-4A80-B2F1-B6B328D4F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8A53-3758-4A26-9EDA-3764E0CE5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AE7D-FE6B-47A1-B5BE-C84865CCA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CBA4-3AED-4F37-8195-306645263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44C9-BDB7-4D1D-B26D-453A15B97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AFA5-EDFC-4994-8B08-8B9B9E00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2558-6544-42EA-9515-D7A264CF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121A-A110-43C6-8D25-BBF04454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6896A-B856-473C-9825-591448ECF9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 7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king Cho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4920" y="28195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ic 1: What is Econom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ic 2: Making Economic Dec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ic 3: U.S.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ic 4: Promoting Economic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429000" y="533520"/>
            <a:ext cx="2057400" cy="1218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05320" y="5410080"/>
            <a:ext cx="2057400" cy="1219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2895480"/>
            <a:ext cx="22860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2819520"/>
            <a:ext cx="22860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m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29000" y="3048120"/>
            <a:ext cx="2057400" cy="12189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934320" y="0"/>
            <a:ext cx="2209680" cy="1447920"/>
          </a:xfrm>
          <a:prstGeom prst="triangle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3124080"/>
            <a:ext cx="1904760" cy="1015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2800200">
            <a:off x="2095200" y="1180800"/>
            <a:ext cx="609480" cy="1904760"/>
          </a:xfrm>
          <a:prstGeom prst="downArrow">
            <a:avLst>
              <a:gd name="adj1" fmla="val 32287"/>
              <a:gd name="adj2" fmla="val 963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3821000">
            <a:off x="1409400" y="799560"/>
            <a:ext cx="609480" cy="1904760"/>
          </a:xfrm>
          <a:prstGeom prst="downArrow">
            <a:avLst>
              <a:gd name="adj1" fmla="val 32287"/>
              <a:gd name="adj2" fmla="val 963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800200">
            <a:off x="6133680" y="4305240"/>
            <a:ext cx="609840" cy="1905120"/>
          </a:xfrm>
          <a:prstGeom prst="downArrow">
            <a:avLst>
              <a:gd name="adj1" fmla="val 32287"/>
              <a:gd name="adj2" fmla="val 963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13821000">
            <a:off x="6591240" y="4685760"/>
            <a:ext cx="609480" cy="1905120"/>
          </a:xfrm>
          <a:prstGeom prst="downArrow">
            <a:avLst>
              <a:gd name="adj1" fmla="val 32287"/>
              <a:gd name="adj2" fmla="val 963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7686600">
            <a:off x="6209640" y="1180800"/>
            <a:ext cx="609480" cy="1904760"/>
          </a:xfrm>
          <a:prstGeom prst="downArrow">
            <a:avLst>
              <a:gd name="adj1" fmla="val 32287"/>
              <a:gd name="adj2" fmla="val 963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18544200">
            <a:off x="5600520" y="1562040"/>
            <a:ext cx="609840" cy="1905120"/>
          </a:xfrm>
          <a:prstGeom prst="downArrow">
            <a:avLst>
              <a:gd name="adj1" fmla="val 32287"/>
              <a:gd name="adj2" fmla="val 963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9600800">
            <a:off x="1905120" y="4648320"/>
            <a:ext cx="609480" cy="1904760"/>
          </a:xfrm>
          <a:prstGeom prst="downArrow">
            <a:avLst>
              <a:gd name="adj1" fmla="val 32287"/>
              <a:gd name="adj2" fmla="val 963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8553600">
            <a:off x="2361600" y="4343400"/>
            <a:ext cx="609480" cy="1905120"/>
          </a:xfrm>
          <a:prstGeom prst="downArrow">
            <a:avLst>
              <a:gd name="adj1" fmla="val 32287"/>
              <a:gd name="adj2" fmla="val 963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43600" y="685800"/>
            <a:ext cx="1219320" cy="380880"/>
          </a:xfrm>
          <a:prstGeom prst="leftArrow">
            <a:avLst>
              <a:gd name="adj1" fmla="val 50000"/>
              <a:gd name="adj2" fmla="val 800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-690840" y="263520"/>
            <a:ext cx="9172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IV: Promoting Economic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. Productivity (output v. inp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Spec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Division of Labor (Assembly L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 Investment in Human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. Economic Interdepe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 Mass Production/Fac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. Technology &amp; Inno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Robo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Inven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 Education &amp;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. Big Busin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Agri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I.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.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Blue Collar v. White Col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Unskilled v. Skil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14000" y="376200"/>
            <a:ext cx="4618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. Government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Lab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Minimum W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Busin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Restr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rice Contr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503640" y="414360"/>
            <a:ext cx="81385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I: What is Economic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. Choices (Goods &amp; Servi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W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oo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v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. W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Limited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Unlimited W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 Scar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. Rewards &amp; Con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Immediate Gra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Exampl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Trade-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 Opportunity Cos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5335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IMIT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19520" y="198108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81480" y="533520"/>
            <a:ext cx="312444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3429000"/>
            <a:ext cx="82296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35053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ices all Societies/Producers must 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4191120"/>
            <a:ext cx="838080" cy="838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95480" y="4191120"/>
            <a:ext cx="838440" cy="838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7800" y="4191120"/>
            <a:ext cx="838080" cy="838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467480" y="4267080"/>
            <a:ext cx="838440" cy="838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5257800"/>
            <a:ext cx="198108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5257800"/>
            <a:ext cx="198108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5257800"/>
            <a:ext cx="198144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8000" y="5257800"/>
            <a:ext cx="198108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905120"/>
            <a:ext cx="1905120" cy="1218960"/>
          </a:xfrm>
          <a:custGeom>
            <a:avLst/>
            <a:gdLst>
              <a:gd name="textAreaLeft" fmla="*/ 255240 w 1905120"/>
              <a:gd name="textAreaRight" fmla="*/ 1649880 w 1905120"/>
              <a:gd name="textAreaTop" fmla="*/ 213120 h 1218960"/>
              <a:gd name="textAreaBottom" fmla="*/ 88380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248520" y="1981080"/>
            <a:ext cx="1752480" cy="1143000"/>
          </a:xfrm>
          <a:custGeom>
            <a:avLst/>
            <a:gdLst>
              <a:gd name="textAreaLeft" fmla="*/ 234720 w 1752480"/>
              <a:gd name="textAreaRight" fmla="*/ 1517760 w 175248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68360" y="457200"/>
            <a:ext cx="82947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. Producers &amp; Consu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Produ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W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How M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For Wh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Factors of Production  (PRODUCTIV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Land, Natural Resources, Rene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Labor, wage, sa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ntrepreneu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Consu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Resources, Wants,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Cost/Bene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90720" y="533520"/>
            <a:ext cx="7010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s of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0" y="1676520"/>
            <a:ext cx="1600200" cy="1828800"/>
          </a:xfrm>
          <a:prstGeom prst="downArrowCallout">
            <a:avLst>
              <a:gd name="adj1" fmla="val 25002"/>
              <a:gd name="adj2" fmla="val 25000"/>
              <a:gd name="adj3" fmla="val 19048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48320" y="1676520"/>
            <a:ext cx="1600200" cy="1828800"/>
          </a:xfrm>
          <a:prstGeom prst="downArrowCallout">
            <a:avLst>
              <a:gd name="adj1" fmla="val 25002"/>
              <a:gd name="adj2" fmla="val 25000"/>
              <a:gd name="adj3" fmla="val 19048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14600" y="1676520"/>
            <a:ext cx="1600200" cy="1828800"/>
          </a:xfrm>
          <a:prstGeom prst="downArrowCallout">
            <a:avLst>
              <a:gd name="adj1" fmla="val 25002"/>
              <a:gd name="adj2" fmla="val 25000"/>
              <a:gd name="adj3" fmla="val 19048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1676520"/>
            <a:ext cx="1600200" cy="1828800"/>
          </a:xfrm>
          <a:prstGeom prst="downArrowCallout">
            <a:avLst>
              <a:gd name="adj1" fmla="val 25002"/>
              <a:gd name="adj2" fmla="val 25000"/>
              <a:gd name="adj3" fmla="val 19048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010280" y="182880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EPRENU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3962520"/>
            <a:ext cx="16002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58000" y="3962520"/>
            <a:ext cx="16002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48320" y="3962520"/>
            <a:ext cx="16002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14600" y="3962520"/>
            <a:ext cx="16002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43880" y="347652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90920" y="350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879440" y="350532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936840" y="342900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5562720"/>
            <a:ext cx="160020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90920" y="5562720"/>
            <a:ext cx="160020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48320" y="5562720"/>
            <a:ext cx="160020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58000" y="5562720"/>
            <a:ext cx="160020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8280" y="4952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47520" y="49132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78000" y="4952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162920" y="4952880"/>
            <a:ext cx="11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-118800" y="395280"/>
            <a:ext cx="6377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II: Making Economic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cision-Making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st altern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te the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aluate altern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ke a dec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12000" y="609480"/>
            <a:ext cx="43459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. Cho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Trade-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Opportunity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. Produ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Cost v. Rev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Fixed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E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Variable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E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Marginal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E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Cost Benefit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Page 5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-195480" y="450720"/>
            <a:ext cx="81936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III: United States Ec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ita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so Known A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.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Private Owners, Private Property R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Government Ow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 Supply v. Demand, Com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. Freedom, No Gov’t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 Profit Mo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. Consumer Sovereign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. Voluntary E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. Laissez-F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. Fou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Adam Smith “The Wealth of Nation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John Key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2400" y="730080"/>
            <a:ext cx="69703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. How do we measure our econom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Gross Domestic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W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tandard of L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National Deb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Compari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U.S. v. Ca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U.S. v. 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U.S. v. Mex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. What does the economy look lik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Circular Flow of Economic Activity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Consumer Sector/Factor 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Business Sector/Product 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Government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Foreign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7T19:39:59Z</dcterms:created>
  <dc:creator>Chatham Central</dc:creator>
  <dc:description/>
  <dc:language>en-US</dc:language>
  <cp:lastModifiedBy>Chatham Central</cp:lastModifiedBy>
  <dcterms:modified xsi:type="dcterms:W3CDTF">2009-04-29T18:47:04Z</dcterms:modified>
  <cp:revision>2</cp:revision>
  <dc:subject/>
  <dc:title>Goal 7 Making Choices</dc:title>
</cp:coreProperties>
</file>